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997-FD23-4416-8C96-EEEA54DA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844-EE82-4ADF-9893-97D826E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DC3-12C7-4178-95B0-82015D98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E6B-59EC-481C-A138-69717F83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25F-DFEA-4BB3-AB18-4CFD5D5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6E2-ECC4-4673-8027-81F1CFA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C0D-29CC-4604-A716-AD15076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CC1-DB04-4937-9CC9-AFF9F237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E39-98E3-4151-8618-A1FE5212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C03-CC7D-4698-8408-3FBA2AD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FF4-4F96-480F-A074-66BD437F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EB6-97C1-47C0-9205-847271D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922-3772-473E-A5AB-EE22A672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mberton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77120" y="52531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Kay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Dec,7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Computer#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835600">
            <a:off x="1218960" y="837720"/>
            <a:ext cx="707868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Coca- Col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44" name=""/>
          <p:cNvSpPr/>
          <p:nvPr/>
        </p:nvSpPr>
        <p:spPr>
          <a:xfrm rot="20905800">
            <a:off x="1752840" y="4648320"/>
            <a:ext cx="41911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ree Play Music, </a:t>
            </a:r>
            <a:r>
              <a:rPr b="0" lang="en-US" sz="2000" spc="-1" strike="noStrike" u="sng">
                <a:solidFill>
                  <a:srgbClr val="66ffff"/>
                </a:solidFill>
                <a:uFillTx/>
                <a:latin typeface="Arial"/>
              </a:rPr>
              <a:t>Geto_ B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December 8,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nvented b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cc"/>
                </a:solidFill>
                <a:latin typeface="Tahoma"/>
              </a:rPr>
              <a:t>John Perbe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mberton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14400" y="30492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3733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mels MIT,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John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99cc"/>
                </a:solidFill>
                <a:uFillTx/>
                <a:latin typeface="Arial"/>
              </a:rPr>
              <a:t>Perber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038ca"/>
                </a:solidFill>
                <a:latin typeface="Arial"/>
              </a:rPr>
              <a:t>Decemb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2011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762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ohn Pemberton has made the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most popular fountain drink in the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l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29200" y="1828800"/>
            <a:ext cx="3147840" cy="3429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34120" y="571500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ip art, pop December 8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ntion: Coca-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ca- Cola is one of the most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ntain drinks in America, as well as</a:t>
            </a: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il 1905 Coca- Cola contained extr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 cocaine and kola n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original formula was made in 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ca- Cola is the most popular drink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ventor: John Per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mberton was born in 1831 in Knoxville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t the age of 19 he got a medical degree practicing medicine and sur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en his patients had a headache he would give them something called “Permberton’s French Wine Coca”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 became Coca-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ter, Permberton took a brass kettle in his back yard and then took a mixed version of the syrup and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me Coca-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888 he sold his rights to Coca- Cola and later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ar John Permberton d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30Z</dcterms:modified>
  <cp:revision>11</cp:revision>
  <dc:subject/>
  <dc:title>Slide 1</dc:title>
</cp:coreProperties>
</file>